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0C3A-A7CC-4998-BF45-20049A532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6B67-FF61-4BDE-ADF7-9300571F5D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A9EE-C638-4576-BACA-AB5F705C2E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10C7-EE5E-47DC-8EC0-9DE7FAF4AE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F301-9071-449A-A48C-543123C677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2754-8688-4E63-A10B-F6D6AF1F11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2E25-646E-4C8A-B075-9962386C42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F924-2B30-48D3-A894-07ABDCBDC7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960C-FFD2-45EE-9C0C-D9F9B54942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5E08-6909-4175-A8C2-1E8B40E43B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72F3-422C-469C-AA30-3EA85076DD8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A3AB-C07F-410E-B58D-E457B7278F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14560" y="679320"/>
            <a:ext cx="4628880" cy="34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5040" y="4376520"/>
            <a:ext cx="5047920" cy="40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1C48-F047-4C80-9EC5-DA8BBF93C3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D215-E98B-47DF-9128-3D7D23C7ED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63B3-23D2-4503-8869-AEE1AF9753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B1FD-E52C-47C8-9AB3-6725C9A78F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5261-73F4-4418-BAEF-6B5923991E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4E3E-D41E-4D90-8B3D-57FC63D723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44956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DNA Extraction from 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5" descr="strawberries.jpg"/>
          <p:cNvPicPr/>
          <p:nvPr/>
        </p:nvPicPr>
        <p:blipFill>
          <a:blip r:embed="rId1"/>
          <a:stretch/>
        </p:blipFill>
        <p:spPr>
          <a:xfrm>
            <a:off x="990720" y="3657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oap &amp; Deterg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ap gathers between oil and water capturing the oil in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ubbl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led a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micel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you wash your hands,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ap carries the oils 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awn dishwash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orks BEST to remov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hospholipid membra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5" descr="micelle"/>
          <p:cNvPicPr/>
          <p:nvPr/>
        </p:nvPicPr>
        <p:blipFill>
          <a:blip r:embed="rId1"/>
          <a:stretch/>
        </p:blipFill>
        <p:spPr>
          <a:xfrm>
            <a:off x="6172200" y="1752480"/>
            <a:ext cx="2587680" cy="4191120"/>
          </a:xfrm>
          <a:prstGeom prst="rect">
            <a:avLst/>
          </a:prstGeom>
          <a:ln w="0">
            <a:noFill/>
          </a:ln>
        </p:spPr>
      </p:pic>
      <p:sp>
        <p:nvSpPr>
          <p:cNvPr id="104" name="Line 6"/>
          <p:cNvSpPr/>
          <p:nvPr/>
        </p:nvSpPr>
        <p:spPr>
          <a:xfrm>
            <a:off x="5943600" y="2743200"/>
            <a:ext cx="18288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oap &amp; Deterg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adding a small amount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ble salt (NaCl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the soap solution, the solution c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unch ho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nuclear and cell membra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apy solu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lso help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moves prote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5" descr="Carlops-extrac"/>
          <p:cNvPicPr/>
          <p:nvPr/>
        </p:nvPicPr>
        <p:blipFill>
          <a:blip r:embed="rId1"/>
          <a:srcRect l="5359" t="0" r="16072" b="0"/>
          <a:stretch/>
        </p:blipFill>
        <p:spPr>
          <a:xfrm>
            <a:off x="5715000" y="2133720"/>
            <a:ext cx="2971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other Way to Remove Protei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NA is tightly coiled around proteins calle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isto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teins must be removed to see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nzym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like the ones found in meat tenderizer, can remove prot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5" descr="chrom1"/>
          <p:cNvPicPr/>
          <p:nvPr/>
        </p:nvPicPr>
        <p:blipFill>
          <a:blip r:embed="rId1"/>
          <a:stretch/>
        </p:blipFill>
        <p:spPr>
          <a:xfrm>
            <a:off x="1752480" y="4038480"/>
            <a:ext cx="51818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xtracting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tents of the ce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organelles, proteins, etc.) must be separated from the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arger cell par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n be removed by filtering the solid from the liqu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7" descr="Filtering the strawberry mixture"/>
          <p:cNvPicPr/>
          <p:nvPr/>
        </p:nvPicPr>
        <p:blipFill>
          <a:blip r:embed="rId1"/>
          <a:srcRect l="30359" t="0" r="14288" b="0"/>
          <a:stretch/>
        </p:blipFill>
        <p:spPr>
          <a:xfrm>
            <a:off x="5834160" y="1905120"/>
            <a:ext cx="2925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xtracting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see DNA, it must b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tracted or “spooled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the remaining liquid you filte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NA dissolves in water, bu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OT in alcoh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ing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LD ALCOHO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ll cause DNA t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cipitate (separate out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the liquid filtr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llecting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ll appear a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ite precipi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ce the alcohol is add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D THE TUBE by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not the bottom so the DNA strands won’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ragment from the heat of your hand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5" descr="strawberry%20DNA"/>
          <p:cNvPicPr/>
          <p:nvPr/>
        </p:nvPicPr>
        <p:blipFill>
          <a:blip r:embed="rId1"/>
          <a:stretch/>
        </p:blipFill>
        <p:spPr>
          <a:xfrm>
            <a:off x="6172200" y="1828800"/>
            <a:ext cx="2567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pooling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NA i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ick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will adhere to other surfa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lass stirring r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n be used to spool (remove) the DNA by using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urning mo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5" descr="S-10"/>
          <p:cNvPicPr/>
          <p:nvPr/>
        </p:nvPicPr>
        <p:blipFill>
          <a:blip r:embed="rId1"/>
          <a:stretch/>
        </p:blipFill>
        <p:spPr>
          <a:xfrm>
            <a:off x="5951520" y="1676520"/>
            <a:ext cx="2430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s DNA in My Food??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NA is present in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ells of all living organis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ces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tracting D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a cell is the first step for man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aboratory procedures in biotechnolo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cientist must be able t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parate DNA from the unwanted substances of the ce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ently enough so that the DNA does not denature (break up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6"/>
          <p:cNvSpPr/>
          <p:nvPr/>
        </p:nvSpPr>
        <p:spPr>
          <a:xfrm>
            <a:off x="7620120" y="63691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cell contain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9 feet of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an average meal, you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AT approximately 55,000,0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equal to approximatel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93,205 miles of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Fa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6324480" y="1295280"/>
            <a:ext cx="2473560" cy="53262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NA is found in 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nucleu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all eukaryotic cel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st cells have 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iploid 2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hromosome numb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ny plants ar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olyploi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(contain several sets of chromosome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trawberri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 ar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ctaploid 8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NA is enclosed in a nuclear and a cell membrane made of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hospholipi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NA is als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oiled around protei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th the phospholipid layer and the proteins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ust be remov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see DN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ell300%20xnew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0" y="5943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CLEUS with D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Extract DNA, You Must Remove 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ell membra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ytoplas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uclear membra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o I Beg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ce the strawberry in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zip lock ba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remove the ai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quas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berry with your hand to begin the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5" descr="Crushing a strawberry"/>
          <p:cNvPicPr/>
          <p:nvPr/>
        </p:nvPicPr>
        <p:blipFill>
          <a:blip r:embed="rId1"/>
          <a:srcRect l="0" t="0" r="0" b="21429"/>
          <a:stretch/>
        </p:blipFill>
        <p:spPr>
          <a:xfrm>
            <a:off x="2362320" y="3962520"/>
            <a:ext cx="4267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 membranes are made of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hospholip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olipid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on’t dissolve in wa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at do you use in your home to remove oils from your hands or your dish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AP or DETERGEN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5" descr="slide0007_image007"/>
          <p:cNvPicPr/>
          <p:nvPr/>
        </p:nvPicPr>
        <p:blipFill>
          <a:blip r:embed="rId1"/>
          <a:stretch/>
        </p:blipFill>
        <p:spPr>
          <a:xfrm>
            <a:off x="5334120" y="1905120"/>
            <a:ext cx="3128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7:42:08Z</dcterms:created>
  <dc:creator>cmassengale</dc:creator>
  <dc:description/>
  <dc:language>en-US</dc:language>
  <cp:lastModifiedBy>cmassengale</cp:lastModifiedBy>
  <dcterms:modified xsi:type="dcterms:W3CDTF">2009-04-03T18:14:26Z</dcterms:modified>
  <cp:revision>9</cp:revision>
  <dc:subject/>
  <dc:title>DNA Extraction</dc:title>
</cp:coreProperties>
</file>